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A0E-8FB4-42C0-AA7A-22243AA4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8677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5640" y="3478320"/>
            <a:ext cx="8677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988-592C-4421-BCF1-351110B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5640" y="347832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000" y="347832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B47-D84E-4EFD-8BE9-C690C35C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280" y="65736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920" y="65736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5640" y="347832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280" y="347832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920" y="3478320"/>
            <a:ext cx="2793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CFA-E9DD-4B28-B1C3-1A76AC19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5640" y="657360"/>
            <a:ext cx="8677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72C-85A1-4612-9DE6-5AAAF5A0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86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3B4-A36B-451F-9B89-AE8BFD73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4234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000" y="657360"/>
            <a:ext cx="4234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8C8-37AA-405C-83BD-12A589B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214-DC79-4E72-8520-5E42D0CD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" y="8064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3A6-A23A-4762-A203-F0109A84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000" y="657360"/>
            <a:ext cx="4234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5640" y="347832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28A-00B2-4933-BF82-38E2E55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4234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00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000" y="347832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F7A-C940-41C3-A644-DAD3927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" y="615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000" y="657360"/>
            <a:ext cx="4234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5640" y="3478320"/>
            <a:ext cx="8677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DA7-5213-4F35-A33E-551F219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60" y="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657360"/>
            <a:ext cx="86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BFD2-2EF6-4DA1-B8DF-FDD70955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400" y="81000"/>
            <a:ext cx="55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reless remote temperature &amp; humidity lo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sign side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30440" y="868320"/>
          <a:ext cx="585792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868320"/>
                    <a:ext cx="58579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55640" y="5013360"/>
            <a:ext cx="802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wireless remote sen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and humidity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lone long term data logging (Onboard SD wr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onnectivity (USB Data tal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4545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040" y="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0 16bit periodical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87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5290920" cy="2370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28720" y="16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42920" y="16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9672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47960" y="1168560"/>
            <a:ext cx="143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750 count </a:t>
            </a:r>
            <a:r>
              <a:rPr b="1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25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9280" y="3321000"/>
            <a:ext cx="29527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imer configur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08BIT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0    select 16bit width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0CS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0  select int clock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0PS2::0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3  select 1/16 prescaler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SA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0  use presca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61080" y="1015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52360" y="1096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5000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400" y="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2 (SD Initialization, PWM backlight and bee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58920" y="839880"/>
            <a:ext cx="5221080" cy="1868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646880" y="28893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M for Backlight and b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64080" y="17002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4320" y="3429000"/>
            <a:ext cx="297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WM Period = [(PR2)+1] x 4 x Tosc x Presca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960" y="2924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SD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5960" y="334980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-400kHz SPI clock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6360" y="3860640"/>
            <a:ext cx="29527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imer configur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2CKPS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0  1/1 scaler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R2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30</a:t>
            </a:r>
            <a:br>
              <a:rPr sz="1000"/>
            </a:b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eq = 12M / 30 = 400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51280" y="3860640"/>
            <a:ext cx="3853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imer configur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2CKPS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2  1/16 scaler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R2 </a:t>
            </a:r>
            <a:r>
              <a:rPr b="0" lang="ja-JP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255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eq = 12M / 16 / 256 = 2.93kHz (minimum frequenc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600" y="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3 Data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4000" y="512640"/>
            <a:ext cx="5435280" cy="3544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259720" y="13842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44720" y="14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25440" y="148428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elect 1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3440" y="130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800" y="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PIC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9240" y="620640"/>
            <a:ext cx="52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NT2   (RX signal invo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TMR3 (RX signal samp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TMR0 (25ms periodical tick. Main system cy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2057400"/>
            <a:ext cx="7924680" cy="76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1371600"/>
            <a:ext cx="3276720" cy="76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1143000"/>
            <a:ext cx="2743200" cy="2286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667640" y="1289160"/>
            <a:ext cx="762120" cy="756720"/>
            <a:chOff x="7667640" y="1289160"/>
            <a:chExt cx="762120" cy="756720"/>
          </a:xfrm>
        </p:grpSpPr>
        <p:sp>
          <p:nvSpPr>
            <p:cNvPr id="423" name=""/>
            <p:cNvSpPr/>
            <p:nvPr/>
          </p:nvSpPr>
          <p:spPr>
            <a:xfrm>
              <a:off x="7740720" y="1614240"/>
              <a:ext cx="611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40720" y="1289160"/>
              <a:ext cx="609480" cy="75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67640" y="1361880"/>
              <a:ext cx="762120" cy="25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H="1">
            <a:off x="388620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86200" y="1447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79640" y="115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6600" y="1676520"/>
            <a:ext cx="152280" cy="38088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05440" y="1752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1447920"/>
            <a:ext cx="152280" cy="22860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05440" y="14479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2743200"/>
            <a:ext cx="28954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82520" y="6324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15920" y="44798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2819520"/>
            <a:ext cx="2743200" cy="3429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486320" y="3824280"/>
            <a:ext cx="2209680" cy="1752480"/>
            <a:chOff x="4486320" y="3824280"/>
            <a:chExt cx="2209680" cy="1752480"/>
          </a:xfrm>
        </p:grpSpPr>
        <p:sp>
          <p:nvSpPr>
            <p:cNvPr id="438" name=""/>
            <p:cNvSpPr/>
            <p:nvPr/>
          </p:nvSpPr>
          <p:spPr>
            <a:xfrm>
              <a:off x="4486320" y="3824280"/>
              <a:ext cx="220968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4920" y="4205160"/>
              <a:ext cx="1752480" cy="99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14920" y="4052520"/>
              <a:ext cx="1752480" cy="152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14920" y="5195520"/>
              <a:ext cx="1752480" cy="152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62640" y="4052520"/>
              <a:ext cx="152280" cy="1295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67400" y="4052520"/>
              <a:ext cx="152640" cy="1295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590920" y="4400640"/>
            <a:ext cx="99036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048120" y="1219320"/>
            <a:ext cx="380880" cy="838080"/>
            <a:chOff x="3048120" y="1219320"/>
            <a:chExt cx="380880" cy="838080"/>
          </a:xfrm>
        </p:grpSpPr>
        <p:sp>
          <p:nvSpPr>
            <p:cNvPr id="446" name=""/>
            <p:cNvSpPr/>
            <p:nvPr/>
          </p:nvSpPr>
          <p:spPr>
            <a:xfrm>
              <a:off x="3276720" y="1371600"/>
              <a:ext cx="76320" cy="532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53040" y="1219320"/>
              <a:ext cx="759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8120" y="1295280"/>
              <a:ext cx="304920" cy="38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6680" y="2819520"/>
            <a:ext cx="3049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969840" y="238500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86120" y="2819520"/>
            <a:ext cx="533520" cy="304200"/>
            <a:chOff x="2886120" y="2819520"/>
            <a:chExt cx="533520" cy="304200"/>
          </a:xfrm>
        </p:grpSpPr>
        <p:sp>
          <p:nvSpPr>
            <p:cNvPr id="452" name=""/>
            <p:cNvSpPr/>
            <p:nvPr/>
          </p:nvSpPr>
          <p:spPr>
            <a:xfrm>
              <a:off x="296244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3876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1472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9104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736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43320" y="2819520"/>
              <a:ext cx="0" cy="22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86120" y="3047760"/>
              <a:ext cx="533520" cy="759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 rot="16200000">
            <a:off x="2908080" y="23655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C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035080" y="2590920"/>
            <a:ext cx="304560" cy="457200"/>
            <a:chOff x="2035080" y="2590920"/>
            <a:chExt cx="304560" cy="457200"/>
          </a:xfrm>
        </p:grpSpPr>
        <p:sp>
          <p:nvSpPr>
            <p:cNvPr id="461" name=""/>
            <p:cNvSpPr/>
            <p:nvPr/>
          </p:nvSpPr>
          <p:spPr>
            <a:xfrm>
              <a:off x="2035080" y="281952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11040" y="2590920"/>
              <a:ext cx="1526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 rot="16200000">
            <a:off x="2001600" y="22338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52280" y="1219320"/>
            <a:ext cx="1371600" cy="838080"/>
            <a:chOff x="152280" y="1219320"/>
            <a:chExt cx="1371600" cy="838080"/>
          </a:xfrm>
        </p:grpSpPr>
        <p:sp>
          <p:nvSpPr>
            <p:cNvPr id="465" name=""/>
            <p:cNvSpPr/>
            <p:nvPr/>
          </p:nvSpPr>
          <p:spPr>
            <a:xfrm>
              <a:off x="761760" y="1219320"/>
              <a:ext cx="762120" cy="838080"/>
            </a:xfrm>
            <a:prstGeom prst="rect">
              <a:avLst/>
            </a:prstGeom>
            <a:solidFill>
              <a:srgbClr val="ffff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280" y="1371600"/>
              <a:ext cx="60948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918520" y="4797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66160" y="4581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087280" y="38242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23640" y="558972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35640" y="5697360"/>
            <a:ext cx="50472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06920" y="5769000"/>
            <a:ext cx="360360" cy="3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75280" y="5697360"/>
            <a:ext cx="50472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6560" y="5769000"/>
            <a:ext cx="360360" cy="3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14920" y="5697360"/>
            <a:ext cx="50472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86560" y="5769000"/>
            <a:ext cx="360360" cy="3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54560" y="5697360"/>
            <a:ext cx="505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26200" y="5769000"/>
            <a:ext cx="360360" cy="3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123640" y="59500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4160" y="6137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ush-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095720" y="1677960"/>
            <a:ext cx="152280" cy="38088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95720" y="1449360"/>
            <a:ext cx="152280" cy="22860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3828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828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1916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19160" y="2443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3814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8148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6236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8280" y="2743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38280" y="2438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81480" y="2438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7640" y="339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90560" y="2209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8108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81080" y="22478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360" y="2362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4240" y="2305080"/>
            <a:ext cx="2971800" cy="76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6000" y="1773360"/>
            <a:ext cx="371520" cy="53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13000" y="1984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90520" y="14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8280" y="1752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8280" y="170496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0920" y="1703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9720" y="1709640"/>
            <a:ext cx="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9280" y="2349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91080" y="231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6480" y="2747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62360" y="2722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6200" y="314172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9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8160" y="1751040"/>
            <a:ext cx="0" cy="9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28880" y="1751040"/>
            <a:ext cx="0" cy="9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1800" y="2706840"/>
            <a:ext cx="312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080" y="2960640"/>
            <a:ext cx="297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2752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15920" y="245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5400" y="312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4200" y="2384280"/>
            <a:ext cx="179280" cy="324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32000" y="231300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61800" y="24210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600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58920" y="2705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8720" y="2392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95640" y="17542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001080" y="17542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2744640"/>
            <a:ext cx="50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2360" y="1754280"/>
            <a:ext cx="49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95640" y="1706400"/>
            <a:ext cx="50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999640" y="1704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7440" y="171144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25880" y="1752480"/>
            <a:ext cx="0" cy="9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967960" y="1752480"/>
            <a:ext cx="0" cy="9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2360" y="2708280"/>
            <a:ext cx="49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67280" y="2308320"/>
            <a:ext cx="4860720" cy="75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03640" y="2384280"/>
            <a:ext cx="179280" cy="324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713800" y="2384280"/>
            <a:ext cx="179280" cy="324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567640" y="1801800"/>
            <a:ext cx="36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932360" y="1914480"/>
            <a:ext cx="1728720" cy="74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76720" y="1700280"/>
            <a:ext cx="1440000" cy="216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67280" y="1989000"/>
            <a:ext cx="109440" cy="32400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80360" y="177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09080" y="18813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993080" y="231300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922880" y="24289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9308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89400" y="188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50200" y="1989000"/>
            <a:ext cx="109440" cy="32400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6000" y="198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7708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989000"/>
            <a:ext cx="0" cy="32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05440" y="20239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79640" y="238428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0944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84720" y="1665360"/>
            <a:ext cx="503280" cy="431640"/>
            <a:chOff x="4284720" y="1665360"/>
            <a:chExt cx="503280" cy="431640"/>
          </a:xfrm>
        </p:grpSpPr>
        <p:sp>
          <p:nvSpPr>
            <p:cNvPr id="558" name=""/>
            <p:cNvSpPr/>
            <p:nvPr/>
          </p:nvSpPr>
          <p:spPr>
            <a:xfrm>
              <a:off x="4319640" y="1844640"/>
              <a:ext cx="43164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1701720"/>
              <a:ext cx="50328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19640" y="1665360"/>
              <a:ext cx="431640" cy="34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997080" y="1808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33800" y="2068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248000" y="2060640"/>
            <a:ext cx="576360" cy="73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248000" y="2133720"/>
            <a:ext cx="108000" cy="17928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16360" y="2133720"/>
            <a:ext cx="108000" cy="179280"/>
          </a:xfrm>
          <a:prstGeom prst="rect">
            <a:avLst/>
          </a:prstGeom>
          <a:solidFill>
            <a:srgbClr val="f3f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64000" y="3608280"/>
            <a:ext cx="2195640" cy="27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03640" y="3789360"/>
            <a:ext cx="34210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2360" y="612936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0000" y="3213000"/>
            <a:ext cx="0" cy="334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80000" y="3249720"/>
            <a:ext cx="0" cy="334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3280" y="3753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43640" y="3753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3280" y="6093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43640" y="6093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716000" y="342900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6544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912000" y="3789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6695280" y="490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3537000"/>
            <a:ext cx="2340000" cy="30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9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392720" y="314172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65440" y="2924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04000" y="35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04000" y="659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28000" y="3573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6839640" y="4872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15640" y="657000"/>
            <a:ext cx="86770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se Takachi YM-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59600" y="242892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 EXT PC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427640" y="2133360"/>
            <a:ext cx="1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792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layout c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B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960640" cy="38988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4140360" y="2023920"/>
            <a:ext cx="1303200" cy="39610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15640" y="657360"/>
            <a:ext cx="86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76 x 100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r 31 x 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800" y="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6560" y="2457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6560" y="1628640"/>
            <a:ext cx="673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70880" y="2744640"/>
            <a:ext cx="151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-C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chip application 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2457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0200" y="2457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 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29040" y="24400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t matrix L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124720" y="2744640"/>
            <a:ext cx="114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L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ing picfu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7640" y="2457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0920" y="24400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y FAT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0800" y="27525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651640" y="2457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12760" y="24400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46240" y="274464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2560" y="1665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900000" y="3968640"/>
            <a:ext cx="540000" cy="238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187280" y="3392640"/>
            <a:ext cx="0" cy="46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rcRect l="13027" t="0" r="9059" b="0"/>
          <a:stretch/>
        </p:blipFill>
        <p:spPr>
          <a:xfrm>
            <a:off x="2592360" y="3753000"/>
            <a:ext cx="754200" cy="7556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987640" y="3429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319640" y="3716280"/>
            <a:ext cx="633240" cy="792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4608360" y="3429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受信モジュール（315MHz）"/>
          <p:cNvPicPr/>
          <p:nvPr/>
        </p:nvPicPr>
        <p:blipFill>
          <a:blip r:embed="rId4"/>
          <a:srcRect l="0" t="11338" r="0" b="13076"/>
          <a:stretch/>
        </p:blipFill>
        <p:spPr>
          <a:xfrm>
            <a:off x="5904000" y="3716280"/>
            <a:ext cx="1008000" cy="60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 flipV="1">
            <a:off x="6372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2800" y="1924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5080" y="447372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aitendo.com/product/26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60" y="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692280"/>
            <a:ext cx="156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700280"/>
            <a:ext cx="1258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HT-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1700280"/>
            <a:ext cx="1258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F315-TX-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7080" y="1700280"/>
            <a:ext cx="1260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16F18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455920"/>
            <a:ext cx="1258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T7733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455920"/>
            <a:ext cx="1260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x 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944640"/>
            <a:ext cx="1258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&amp; 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10160" y="1231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10160" y="1231920"/>
            <a:ext cx="14292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653080" y="1231920"/>
            <a:ext cx="1443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3080" y="12319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4720" y="19526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595760"/>
            <a:ext cx="1258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F315-RXB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4595760"/>
            <a:ext cx="126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18F4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56000" y="3768840"/>
            <a:ext cx="1258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MG12864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4595760"/>
            <a:ext cx="1258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14560" y="3768840"/>
            <a:ext cx="1258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&amp;LED&amp;B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1640" y="41274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4127400"/>
            <a:ext cx="1429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74560" y="4127040"/>
            <a:ext cx="1447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560" y="4127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3429000"/>
            <a:ext cx="156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28720" y="19526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57440" y="19526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28720" y="2708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93800" y="14475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9440" y="144792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4560" y="48481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03640" y="4848120"/>
            <a:ext cx="46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0560" y="48481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914560" y="427176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95640" y="427212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743280" y="427176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5495760"/>
            <a:ext cx="539640" cy="23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82920" y="5603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382920" y="51004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5440" y="576900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8730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5MHz 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56000" y="2708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360" y="2548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60" y="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TRX modul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133440" cy="235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35280" y="765000"/>
            <a:ext cx="3132360" cy="2349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2200" y="3321000"/>
            <a:ext cx="3170160" cy="2378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635280" y="3321000"/>
            <a:ext cx="3132360" cy="234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3240" y="591984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(CH1): RX module 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(CH2): TX modul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800" y="404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t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" y="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a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105264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105264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35280" y="105264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105264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023920"/>
            <a:ext cx="111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03640" y="202392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t v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02392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35640" y="2023920"/>
            <a:ext cx="11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187280" y="1412640"/>
            <a:ext cx="154800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1413000"/>
            <a:ext cx="180036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8800" y="1009800"/>
            <a:ext cx="266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amble:  [10101010]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D: 10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load (Manchester encod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(Manchester enco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1736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07280" y="1736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720" y="1736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8720" y="1736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3440" y="76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76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77800" y="76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76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0200" y="3176640"/>
            <a:ext cx="11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381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0810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816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108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254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68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2544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6836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5159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588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1596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888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032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461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324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380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890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32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8908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3200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76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19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664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1080" y="3932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64000" y="3716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951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0836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4472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00360" y="314172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6000" y="31766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816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67320" y="28162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51280" y="317664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385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9564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3856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292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734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967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34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1636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128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272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38472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728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2728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1636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364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9272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000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959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6872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6360" y="346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928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0364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48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4800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9272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3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612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2872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780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7484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9884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3708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000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24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11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36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6728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144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75200" y="32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11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3720" y="2816280"/>
            <a:ext cx="31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load, Sum (Manchester enco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47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905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1280" y="584280"/>
            <a:ext cx="20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D: Start Frame Delim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11280" y="4400640"/>
          <a:ext cx="6080040" cy="1515960"/>
        </p:xfrm>
        <a:graphic>
          <a:graphicData uri="http://schemas.openxmlformats.org/drawingml/2006/table">
            <a:tbl>
              <a:tblPr/>
              <a:tblGrid>
                <a:gridCol w="874800"/>
                <a:gridCol w="676080"/>
                <a:gridCol w="676440"/>
                <a:gridCol w="7365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 vo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– 3.1V (for 2 cel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 12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igned 12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254560" y="324972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64280" y="362916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80" y="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of data frame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8112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030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2548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82560" y="22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25480" y="2459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7020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1312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70200" y="22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13120" y="24591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6072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0364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0720" y="22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24591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44800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9092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48000" y="22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3384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87640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33840" y="2241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6400" y="2459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2112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6404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21120" y="22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30840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65480" y="245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2459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86840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5748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82240" y="22431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182240" y="22431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3400" y="35528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M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581120" y="35114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6840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70200" y="35114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5748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57480" y="35114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4476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44476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44760" y="35114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3204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733840" y="35114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2112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27280" y="3500280"/>
            <a:ext cx="1447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3384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2112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308400" y="3043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44120" y="1730520"/>
            <a:ext cx="3812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m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.Wait for data slicer leve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Duty 50% is ideal for leve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TMR3 is cleared by INT2 invoked by data r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Count up preamble bit if period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Bit rate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After counting enough bit, data slicer level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xpected to b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TMR3 is cleared by INT2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Use TMR3 value to determine bi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Start synchronous data samp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Once bit rate is detected, following data is samp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MR3 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Each bit is poked twice to know 10 or 01 (o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Start bit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DATA “11” indicates start of pay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Payload,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 Data is from Manchester deco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81120" y="199080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44760" y="1954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560" y="25671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m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8920" y="2579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45840" y="2579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08400" y="19558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45600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13080" y="22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59892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74184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98920" y="22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41840" y="24606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88620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02912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22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173480" y="22431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30560" y="2459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54560" y="246060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1440" y="2603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7120" y="1954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97120" y="303516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5280" y="394812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MR3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668760" y="38984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16360" y="39034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960720" y="39034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02200" y="38984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4760" y="1927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73480" y="224172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60760" y="2241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73480" y="1954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60760" y="1955880"/>
            <a:ext cx="0" cy="33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248000" y="39034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389480" y="38984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1080" y="42372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1120" y="4222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43720" y="4222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19840" y="4229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3120" y="46324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98560" y="4583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583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38200" y="4583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603680" y="22446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60760" y="22446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92760" y="22446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02240" y="24620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1680" y="495612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/SUM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49840" y="19191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6200" y="4222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82720" y="487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16040" y="224316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16040" y="245916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8000" y="22068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2720" y="22068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9840" y="2459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92760" y="22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537080" y="39034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78200" y="38984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816440" y="39114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957920" y="3906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37120" y="19540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9720" y="4214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50920" y="487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70080" y="1990800"/>
            <a:ext cx="95400" cy="655560"/>
          </a:xfrm>
          <a:custGeom>
            <a:avLst/>
            <a:gdLst/>
            <a:ahLst/>
            <a:rect l="l" t="t" r="r" b="b"/>
            <a:pathLst>
              <a:path w="60" h="413">
                <a:moveTo>
                  <a:pt x="58" y="0"/>
                </a:moveTo>
                <a:cubicBezTo>
                  <a:pt x="48" y="26"/>
                  <a:pt x="0" y="106"/>
                  <a:pt x="0" y="154"/>
                </a:cubicBezTo>
                <a:cubicBezTo>
                  <a:pt x="0" y="202"/>
                  <a:pt x="56" y="245"/>
                  <a:pt x="58" y="288"/>
                </a:cubicBezTo>
                <a:cubicBezTo>
                  <a:pt x="60" y="331"/>
                  <a:pt x="20" y="387"/>
                  <a:pt x="10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05000" y="1990800"/>
            <a:ext cx="95400" cy="655560"/>
          </a:xfrm>
          <a:custGeom>
            <a:avLst/>
            <a:gdLst/>
            <a:ahLst/>
            <a:rect l="l" t="t" r="r" b="b"/>
            <a:pathLst>
              <a:path w="60" h="413">
                <a:moveTo>
                  <a:pt x="58" y="0"/>
                </a:moveTo>
                <a:cubicBezTo>
                  <a:pt x="48" y="26"/>
                  <a:pt x="0" y="106"/>
                  <a:pt x="0" y="154"/>
                </a:cubicBezTo>
                <a:cubicBezTo>
                  <a:pt x="0" y="202"/>
                  <a:pt x="56" y="245"/>
                  <a:pt x="58" y="288"/>
                </a:cubicBezTo>
                <a:cubicBezTo>
                  <a:pt x="60" y="331"/>
                  <a:pt x="20" y="387"/>
                  <a:pt x="10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77880" y="16444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amble + S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258920" y="22431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09080" y="164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9840" y="16286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85880" y="101592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arrier (w/o modulatio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Quick Rx AG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77800" y="2603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65080" y="2603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1881360"/>
            <a:ext cx="3672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0239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85440" y="1484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72000" y="173664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72000" y="3500280"/>
            <a:ext cx="14436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7200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149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816360" y="3500280"/>
            <a:ext cx="1429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959280" y="3500280"/>
            <a:ext cx="14436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9280" y="3511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0220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03640" y="3489480"/>
            <a:ext cx="14436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48000" y="3489480"/>
            <a:ext cx="14472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4800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90920" y="3489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392720" y="3489480"/>
            <a:ext cx="14436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535640" y="3489480"/>
            <a:ext cx="14580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3708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0000" y="3489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680000" y="3489480"/>
            <a:ext cx="14436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824360" y="3489480"/>
            <a:ext cx="14436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2436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67280" y="3489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024360" y="35002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11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3800" y="360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29440" y="3321000"/>
            <a:ext cx="42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20" y="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X data wav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638760" y="1125360"/>
            <a:ext cx="2146320" cy="2376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03280" y="573120"/>
            <a:ext cx="6157800" cy="2927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0" t="5520" r="15550" b="15732"/>
          <a:stretch/>
        </p:blipFill>
        <p:spPr>
          <a:xfrm>
            <a:off x="1440000" y="3681360"/>
            <a:ext cx="4140000" cy="2895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86560" y="38606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x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3440" y="43848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4440" y="48164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3640" y="58420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960" y="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Xmit timing (data multipl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2205000"/>
            <a:ext cx="75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042920" y="18082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27280" y="18082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12000" y="18082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639360" y="13082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123720" y="13082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5627160" y="13082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087640" y="18082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292720" y="18082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1842480" y="143784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5029920" y="14727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16000" y="2384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00360" y="24573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0920" y="126828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35280" y="126828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33720" y="19368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84720" y="19368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067640" y="19368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28000" y="19368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47280" y="101592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s(approx 6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9600" y="2600280"/>
            <a:ext cx="620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x wait (sleep1) may vary randomly to avoid continuous data collision with other xmi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37440" y="101592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960" y="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PIC oscillator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5029200" cy="5603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281840" y="631044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from data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1700280"/>
            <a:ext cx="576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8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0" y="2023920"/>
            <a:ext cx="68436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97440" y="123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21800" y="162864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93160" y="2023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32360" y="3105000"/>
            <a:ext cx="68400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24360" y="3147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02880" y="328464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2880" y="378936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37800" y="2428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" y="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PIC timer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765000"/>
          <a:ext cx="7716600" cy="1584360"/>
        </p:xfrm>
        <a:graphic>
          <a:graphicData uri="http://schemas.openxmlformats.org/drawingml/2006/table">
            <a:tbl>
              <a:tblPr/>
              <a:tblGrid>
                <a:gridCol w="657000"/>
                <a:gridCol w="573120"/>
                <a:gridCol w="1155600"/>
                <a:gridCol w="1344600"/>
                <a:gridCol w="3986280"/>
              </a:tblGrid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aler 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x (@48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ical interrupt (software tic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1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WM (Backlight brightness, Piezo Beeper)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alser (@SD card Initializ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 data sample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3975120" y="87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mose</cp:lastModifiedBy>
  <dcterms:modified xsi:type="dcterms:W3CDTF">2013-05-28T15:31:49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